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795-28E7-412F-9EC0-2A7DA1D7A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C7D6-E24A-46F2-8C04-7E812C1BD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9D71-E7F1-4C23-B3ED-B2289632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F04A6-AE2A-4A94-98D0-4F8CF1878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F86F-DAC5-4CF0-8E30-86C40237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7DBE-6519-4EB2-B5B7-1CB4786B0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C9A4-FB20-4240-96DA-B10E5182F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F34-919D-4717-9B7A-D703D6AE2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D54A-2D96-4A8A-A831-C2F4D7868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46A-3A4F-4DDB-AB3F-F8080F74C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9F8E-BFA0-42B5-8A51-CD26FC44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F326-7477-4E96-8196-AC92058C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3EB5-F8EF-4B2E-B41B-64F619B3F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603400">
            <a:off x="3782160" y="121104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He/she h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2870280" y="243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0"/>
          <p:cNvSpPr/>
          <p:nvPr/>
        </p:nvSpPr>
        <p:spPr>
          <a:xfrm rot="2868000">
            <a:off x="2977200" y="3543840"/>
            <a:ext cx="68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  <a:ea typeface="Arial"/>
              </a:rPr>
              <a:t>I ha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2666880" y="312408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3"/>
          <p:cNvSpPr/>
          <p:nvPr/>
        </p:nvSpPr>
        <p:spPr>
          <a:xfrm>
            <a:off x="3951360" y="4419720"/>
            <a:ext cx="113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4"/>
          <p:cNvSpPr/>
          <p:nvPr/>
        </p:nvSpPr>
        <p:spPr>
          <a:xfrm>
            <a:off x="7543800" y="350532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5"/>
          <p:cNvSpPr/>
          <p:nvPr/>
        </p:nvSpPr>
        <p:spPr>
          <a:xfrm flipV="1">
            <a:off x="7229520" y="2180880"/>
            <a:ext cx="136044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7"/>
          <p:cNvSpPr/>
          <p:nvPr/>
        </p:nvSpPr>
        <p:spPr>
          <a:xfrm flipV="1">
            <a:off x="6172200" y="2219040"/>
            <a:ext cx="826920" cy="5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9"/>
          <p:cNvSpPr/>
          <p:nvPr/>
        </p:nvSpPr>
        <p:spPr>
          <a:xfrm>
            <a:off x="6815160" y="4386240"/>
            <a:ext cx="83016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2"/>
          <p:cNvSpPr/>
          <p:nvPr/>
        </p:nvSpPr>
        <p:spPr>
          <a:xfrm rot="771000">
            <a:off x="4201920" y="25858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Fath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>
            <a:off x="3817800" y="2867040"/>
            <a:ext cx="113220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5453280" y="2876400"/>
            <a:ext cx="63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6"/>
                </a:solidFill>
                <a:latin typeface="Calibri"/>
                <a:ea typeface="Arial"/>
              </a:rPr>
              <a:t>Eigh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7687800" y="2844720"/>
            <a:ext cx="75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You a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hav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 rot="2240400">
            <a:off x="2597040" y="216252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You sing./fam h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0"/>
          <p:cNvSpPr/>
          <p:nvPr/>
        </p:nvSpPr>
        <p:spPr>
          <a:xfrm>
            <a:off x="6386400" y="3324240"/>
            <a:ext cx="84456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2"/>
          <p:cNvSpPr/>
          <p:nvPr/>
        </p:nvSpPr>
        <p:spPr>
          <a:xfrm rot="1984200">
            <a:off x="6176520" y="937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  <a:ea typeface="Arial"/>
              </a:rPr>
              <a:t>We h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4898880" y="390600"/>
            <a:ext cx="1273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You (sing./ formal) h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4"/>
          <p:cNvSpPr/>
          <p:nvPr/>
        </p:nvSpPr>
        <p:spPr>
          <a:xfrm rot="849000">
            <a:off x="6134040" y="264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Janua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114880" y="4933800"/>
            <a:ext cx="1501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58ed5"/>
                </a:solidFill>
                <a:latin typeface="Calibri"/>
                <a:ea typeface="Arial"/>
              </a:rPr>
              <a:t>Our brother and sister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 rot="4419000">
            <a:off x="4505400" y="36565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Sixt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5-Point Star 1"/>
          <p:cNvSpPr/>
          <p:nvPr/>
        </p:nvSpPr>
        <p:spPr>
          <a:xfrm>
            <a:off x="5691240" y="3414600"/>
            <a:ext cx="571320" cy="441360"/>
          </a:xfrm>
          <a:custGeom>
            <a:avLst/>
            <a:gdLst/>
            <a:ahLst/>
            <a:rect l="l" t="t" r="r" b="b"/>
            <a:pathLst>
              <a:path w="571500" h="441325">
                <a:moveTo>
                  <a:pt x="1" y="168571"/>
                </a:moveTo>
                <a:lnTo>
                  <a:pt x="218295" y="168572"/>
                </a:lnTo>
                <a:lnTo>
                  <a:pt x="285750" y="0"/>
                </a:lnTo>
                <a:lnTo>
                  <a:pt x="353205" y="168572"/>
                </a:lnTo>
                <a:lnTo>
                  <a:pt x="571499" y="168571"/>
                </a:lnTo>
                <a:lnTo>
                  <a:pt x="394895" y="272753"/>
                </a:lnTo>
                <a:lnTo>
                  <a:pt x="462353" y="441324"/>
                </a:lnTo>
                <a:lnTo>
                  <a:pt x="285750" y="337140"/>
                </a:lnTo>
                <a:lnTo>
                  <a:pt x="109147" y="441324"/>
                </a:lnTo>
                <a:lnTo>
                  <a:pt x="176605" y="272753"/>
                </a:lnTo>
                <a:lnTo>
                  <a:pt x="1" y="1685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5"/>
          <p:cNvSpPr/>
          <p:nvPr/>
        </p:nvSpPr>
        <p:spPr>
          <a:xfrm rot="1287600">
            <a:off x="6590880" y="3244680"/>
            <a:ext cx="72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Marc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5"/>
          <p:cNvSpPr/>
          <p:nvPr/>
        </p:nvSpPr>
        <p:spPr>
          <a:xfrm rot="771000">
            <a:off x="6458760" y="3726000"/>
            <a:ext cx="56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June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 rot="19648200">
            <a:off x="5726880" y="2209680"/>
            <a:ext cx="12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6"/>
          <p:cNvSpPr/>
          <p:nvPr/>
        </p:nvSpPr>
        <p:spPr>
          <a:xfrm rot="21190200">
            <a:off x="4913640" y="1993680"/>
            <a:ext cx="99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  <a:ea typeface="Arial"/>
              </a:rPr>
              <a:t>Birthd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 rot="376200">
            <a:off x="4146120" y="4503600"/>
            <a:ext cx="118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Your (pl/f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grandmoth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7345800" y="22496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They h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9"/>
          <p:cNvSpPr/>
          <p:nvPr/>
        </p:nvSpPr>
        <p:spPr>
          <a:xfrm rot="1135800">
            <a:off x="3734280" y="315432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Aun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 rot="20742600">
            <a:off x="5807520" y="4187880"/>
            <a:ext cx="56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alibri"/>
                <a:ea typeface="Arial"/>
              </a:rPr>
              <a:t>For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7508520" y="1501920"/>
            <a:ext cx="691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Y’al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hav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4014720" y="3913200"/>
            <a:ext cx="82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Cousin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 rot="1067400">
            <a:off x="7388280" y="37180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My moth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6"/>
          <p:cNvSpPr/>
          <p:nvPr/>
        </p:nvSpPr>
        <p:spPr>
          <a:xfrm rot="1521000">
            <a:off x="6946920" y="4427640"/>
            <a:ext cx="134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64a2"/>
                </a:solidFill>
                <a:latin typeface="Calibri"/>
                <a:ea typeface="Arial"/>
              </a:rPr>
              <a:t>Your (sing/fam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64a2"/>
                </a:solidFill>
                <a:latin typeface="Calibri"/>
                <a:ea typeface="Arial"/>
              </a:rPr>
              <a:t>childre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6"/>
          <p:cNvSpPr/>
          <p:nvPr/>
        </p:nvSpPr>
        <p:spPr>
          <a:xfrm rot="2699400">
            <a:off x="6436800" y="4803840"/>
            <a:ext cx="9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His pant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36360" y="5162400"/>
            <a:ext cx="37609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40:20Z</dcterms:created>
  <dc:creator>Heffernen, Heather</dc:creator>
  <dc:description/>
  <dc:language>en-US</dc:language>
  <cp:lastModifiedBy>Prine, Stephanie</cp:lastModifiedBy>
  <dcterms:modified xsi:type="dcterms:W3CDTF">2013-11-20T14:53:27Z</dcterms:modified>
  <cp:revision>26</cp:revision>
  <dc:subject/>
  <dc:title>PowerPoint Presentation</dc:title>
</cp:coreProperties>
</file>